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675D-4949-4166-A73A-FA371FE0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750C-5288-4432-915F-5AA6B68E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62E-3B34-4347-84A0-278A8286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6B84-DD86-4341-9F57-1D3B0342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298B-3D3A-4133-92E1-2683365B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3839-2811-45C2-B744-78B99740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4233-82D8-44CD-9079-DEFE3346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EF55-CBA7-4CC3-9363-93C04CA2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F91A-9EB4-4CAB-B6C2-4DC87E44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A7F-DC47-4B7C-BF1E-F5F5502C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7BC-8844-4D1C-85EA-B3C4F0E1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9A0F-938B-43F1-B3F1-40672E73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7A8E-D79A-4CA9-9990-04C2DD5402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mericanrhetoric.com/speeches/fdrpearlharbor.ht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s://www.washingtonpost.com/news/worldviews/wp/2015/11/17/what-americans-thought-of-jewish-refugees-on-the-eve-of-world-war-ii/?utm_term=.59d65c2fc274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s://www.youtube.com/watch?v=dKEisxsn4ys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merican Response to the Looming Threat of a Second World Wa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40381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O START CLASS TODAY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caused WWI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id the US get involved in WWI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notable / memorable things about WWI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ar Continues … America Changes Policy:</a:t>
            </a:r>
            <a:br>
              <a:rPr sz="3600"/>
            </a:br>
            <a:r>
              <a:rPr b="1" i="1" lang="en-US" sz="3600" spc="-1" strike="noStrike" u="sng">
                <a:solidFill>
                  <a:srgbClr val="ccffff"/>
                </a:solidFill>
                <a:uFillTx/>
                <a:latin typeface="Arial"/>
              </a:rPr>
              <a:t>Non-Neutral Indirect Involvemen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tler’s success continues – Germany was well prepared for war- FDR-&gt;Atlantic Charter 8/41 (Churchill/FD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tler turns his attention to Britain,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attle of Brit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unning out of 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h and Carry cannot contin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DR passes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end Lease Agre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S gets British bases throughout world- benefits wh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end Lease Agreement – US becomes the Arsenal of Democrac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nd Lease allowed the US to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“lend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ar goods to Britain in exchange for Britai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“leasing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ome strategic naval bases to the 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see how FDR was able to convince the American peopl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DR’s rhetoric gained support for this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DR compared Lend Lease to loaning your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neighbor your garden hos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 put out a fire at his/her hou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nk back to what you know about the fireside chats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said this was a bad policy because it was more like loaning gum to somebody, you would not want it 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4191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ccffff"/>
                </a:solidFill>
                <a:uFillTx/>
                <a:latin typeface="Arial"/>
              </a:rPr>
              <a:t>Protecting the Arsenal of Democracy</a:t>
            </a:r>
            <a:endParaRPr b="0" lang="en-US" sz="29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DR said the US was defending the Four Democratic Freed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dom of speech and exp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dom of wo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dom from w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dom from fe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something was Lend Lease – it kept the US out of the wa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ice the military reference though – “arsena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5" descr="the four freedoms"/>
          <p:cNvPicPr/>
          <p:nvPr/>
        </p:nvPicPr>
        <p:blipFill>
          <a:blip r:embed="rId1"/>
          <a:srcRect l="2431" t="1179" r="3196" b="1179"/>
          <a:stretch/>
        </p:blipFill>
        <p:spPr>
          <a:xfrm>
            <a:off x="4268880" y="0"/>
            <a:ext cx="487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3276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ffff"/>
                </a:solidFill>
                <a:uFillTx/>
                <a:latin typeface="Arial"/>
              </a:rPr>
              <a:t>Lend Lease </a:t>
            </a:r>
            <a:br>
              <a:rPr sz="3000"/>
            </a:br>
            <a:r>
              <a:rPr b="1" lang="en-US" sz="3000" spc="-1" strike="noStrike" u="sng">
                <a:solidFill>
                  <a:srgbClr val="ccffff"/>
                </a:solidFill>
                <a:uFillTx/>
                <a:latin typeface="Arial"/>
              </a:rPr>
              <a:t>in Actuality</a:t>
            </a:r>
            <a:endParaRPr b="0" lang="en-US" sz="3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end Lease assists Allies without drawing the US into the war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 protects ships to Iceland, no furth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riticism that none of the loaned goods were reaching their destinations because many were sun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uboat attacks WWII"/>
          <p:cNvPicPr/>
          <p:nvPr/>
        </p:nvPicPr>
        <p:blipFill>
          <a:blip r:embed="rId1"/>
          <a:srcRect l="4286" t="4346" r="1427" b="2309"/>
          <a:stretch/>
        </p:blipFill>
        <p:spPr>
          <a:xfrm>
            <a:off x="3733920" y="0"/>
            <a:ext cx="5410080" cy="352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10910cs[1]"/>
          <p:cNvPicPr/>
          <p:nvPr/>
        </p:nvPicPr>
        <p:blipFill>
          <a:blip r:embed="rId2"/>
          <a:stretch/>
        </p:blipFill>
        <p:spPr>
          <a:xfrm>
            <a:off x="3733920" y="3565440"/>
            <a:ext cx="3962160" cy="3292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489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ffff"/>
                </a:solidFill>
                <a:latin typeface="Arial"/>
              </a:rPr>
              <a:t>Curious Non-War War Measures</a:t>
            </a:r>
            <a:br>
              <a:rPr sz="3400"/>
            </a:br>
            <a:r>
              <a:rPr b="1" i="1" lang="en-US" sz="3400" spc="-1" strike="noStrike" u="sng">
                <a:solidFill>
                  <a:srgbClr val="ccffff"/>
                </a:solidFill>
                <a:uFillTx/>
                <a:latin typeface="Arial"/>
              </a:rPr>
              <a:t>PEACETIME WAR MEASURES</a:t>
            </a:r>
            <a:endParaRPr b="0" lang="en-US" sz="3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ve Service Act (Sep 194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eacetime draft? – wasn’t it peacetime st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id the US need this if it was isolated and neutr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lantic Charter (Aug 1941) - Churchill and FD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nned strategy for WW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d a post-war p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 US WASN’T EVEN IN THE WAR YET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ead up to Pearl Harb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3657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arl Harbor was not the first attack on US 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nay – 1937 – Japan bombs this 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pan pays quick reparations…nothing else happ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uben James is sunk– 1941 – US soldiers die escorting ships to Brita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people paid no attention…Woodie Guthrie d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90747"/>
          <p:cNvPicPr/>
          <p:nvPr/>
        </p:nvPicPr>
        <p:blipFill>
          <a:blip r:embed="rId1"/>
          <a:stretch/>
        </p:blipFill>
        <p:spPr>
          <a:xfrm>
            <a:off x="3733920" y="1523880"/>
            <a:ext cx="510516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earl Harbor’s Histor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 counted on US to provide necessary resources for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response to Japanese invasion of China, US freezes Japanese assets and stops trading oil, scrap metal,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 is not ple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 attacks Pearl Har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some people say FDR knew ab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ving information and using it wisely are very differ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62520" y="2742840"/>
            <a:ext cx="121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E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4" name="Picture 3" descr="ph312[1]"/>
          <p:cNvPicPr/>
          <p:nvPr/>
        </p:nvPicPr>
        <p:blipFill>
          <a:blip r:embed="rId1"/>
          <a:stretch/>
        </p:blipFill>
        <p:spPr>
          <a:xfrm>
            <a:off x="0" y="0"/>
            <a:ext cx="4114800" cy="338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5" name="Picture 4" descr="23-0128a[1]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3430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6" name="Picture 5" descr="23-0130a[1]"/>
          <p:cNvPicPr/>
          <p:nvPr/>
        </p:nvPicPr>
        <p:blipFill>
          <a:blip r:embed="rId3"/>
          <a:stretch/>
        </p:blipFill>
        <p:spPr>
          <a:xfrm>
            <a:off x="0" y="3554280"/>
            <a:ext cx="4114800" cy="330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7" name="Picture 6" descr="20-1391a[1]"/>
          <p:cNvPicPr/>
          <p:nvPr/>
        </p:nvPicPr>
        <p:blipFill>
          <a:blip r:embed="rId4"/>
          <a:stretch/>
        </p:blipFill>
        <p:spPr>
          <a:xfrm>
            <a:off x="5029200" y="3578400"/>
            <a:ext cx="4114800" cy="3279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fdrwarspeech2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99"/>
                </a:solidFill>
                <a:uFillTx/>
                <a:latin typeface="Arial"/>
              </a:rPr>
              <a:t>Pearl Harbor sta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More than 2,403 die – Arizo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19 ships sunk or dam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188 pl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Dec 8, 1941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ongress declares war on Japan unanimous in Senate and in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only one dissenting vote (Jeanette Ranki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riggers US involvement in Europe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ook at your Economic Indicators Charts and Stat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lain the meaning of these 4 charts based on what you now k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1752120"/>
            <a:ext cx="25146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hat does this cartoon suggest about American policy towards Europe’s problems? 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4" name="Picture 3" descr="10515cs[1]"/>
          <p:cNvPicPr/>
          <p:nvPr/>
        </p:nvPicPr>
        <p:blipFill>
          <a:blip r:embed="rId1"/>
          <a:stretch/>
        </p:blipFill>
        <p:spPr>
          <a:xfrm>
            <a:off x="2590920" y="304920"/>
            <a:ext cx="624816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4" name="Picture 4" descr="20407cs[1]"/>
          <p:cNvPicPr/>
          <p:nvPr/>
        </p:nvPicPr>
        <p:blipFill>
          <a:blip r:embed="rId1"/>
          <a:stretch/>
        </p:blipFill>
        <p:spPr>
          <a:xfrm>
            <a:off x="152280" y="1828800"/>
            <a:ext cx="4635720" cy="3944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20512cs[1]"/>
          <p:cNvPicPr/>
          <p:nvPr/>
        </p:nvPicPr>
        <p:blipFill>
          <a:blip r:embed="rId2"/>
          <a:stretch/>
        </p:blipFill>
        <p:spPr>
          <a:xfrm>
            <a:off x="4876920" y="3354480"/>
            <a:ext cx="4038480" cy="350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20521cs[1]"/>
          <p:cNvPicPr/>
          <p:nvPr/>
        </p:nvPicPr>
        <p:blipFill>
          <a:blip r:embed="rId3"/>
          <a:stretch/>
        </p:blipFill>
        <p:spPr>
          <a:xfrm>
            <a:off x="5181480" y="0"/>
            <a:ext cx="37339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8" name="Picture 4" descr="20502cs[1]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4343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20805cs[1]"/>
          <p:cNvPicPr/>
          <p:nvPr/>
        </p:nvPicPr>
        <p:blipFill>
          <a:blip r:embed="rId2"/>
          <a:stretch/>
        </p:blipFill>
        <p:spPr>
          <a:xfrm>
            <a:off x="0" y="0"/>
            <a:ext cx="380988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20818cs[1]"/>
          <p:cNvPicPr/>
          <p:nvPr/>
        </p:nvPicPr>
        <p:blipFill>
          <a:blip r:embed="rId3"/>
          <a:stretch/>
        </p:blipFill>
        <p:spPr>
          <a:xfrm>
            <a:off x="0" y="3522600"/>
            <a:ext cx="38862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2" name="Picture 4" descr="21218cs[1]"/>
          <p:cNvPicPr/>
          <p:nvPr/>
        </p:nvPicPr>
        <p:blipFill>
          <a:blip r:embed="rId1"/>
          <a:stretch/>
        </p:blipFill>
        <p:spPr>
          <a:xfrm>
            <a:off x="152280" y="838080"/>
            <a:ext cx="4092840" cy="5334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20612cs[1]"/>
          <p:cNvPicPr/>
          <p:nvPr/>
        </p:nvPicPr>
        <p:blipFill>
          <a:blip r:embed="rId2"/>
          <a:stretch/>
        </p:blipFill>
        <p:spPr>
          <a:xfrm>
            <a:off x="5334120" y="0"/>
            <a:ext cx="3581280" cy="3016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20430cs[1]"/>
          <p:cNvPicPr/>
          <p:nvPr/>
        </p:nvPicPr>
        <p:blipFill>
          <a:blip r:embed="rId3"/>
          <a:stretch/>
        </p:blipFill>
        <p:spPr>
          <a:xfrm>
            <a:off x="4572000" y="3116160"/>
            <a:ext cx="440676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Background Context</a:t>
            </a:r>
            <a:r>
              <a:rPr b="1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 Conclusion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ashington Naval Conferenc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ellogg-Briand Pac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(1928)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od Neighbor Policy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(1930-1934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rman, Italian, and Japanese allian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viet Union and Germany sign Non-Aggression Pa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410080" y="1447560"/>
            <a:ext cx="3733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NG TERM PE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AL POWER – PULL 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WING THR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PROBLEMS IN EUROPE AND ELSE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4952880" y="1828800"/>
            <a:ext cx="9907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3429000" y="2361960"/>
            <a:ext cx="2514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7"/>
          <p:cNvSpPr/>
          <p:nvPr/>
        </p:nvSpPr>
        <p:spPr>
          <a:xfrm>
            <a:off x="3657600" y="3352680"/>
            <a:ext cx="190512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5410080" y="762120"/>
            <a:ext cx="0" cy="5943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5029200" y="49528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 flipV="1">
            <a:off x="5105520" y="5638680"/>
            <a:ext cx="38088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US Legislates </a:t>
            </a:r>
            <a:r>
              <a:rPr b="1" i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Neutral Isolationism</a:t>
            </a:r>
            <a:br>
              <a:rPr sz="4000"/>
            </a:br>
            <a:r>
              <a:rPr b="1" i="1" lang="en-US" sz="2000" spc="-1" strike="noStrike" u="sng">
                <a:solidFill>
                  <a:srgbClr val="ccffff"/>
                </a:solidFill>
                <a:uFillTx/>
                <a:latin typeface="Arial"/>
              </a:rPr>
              <a:t>See Gallup Polls from Greer -handout</a:t>
            </a:r>
            <a:br>
              <a:rPr sz="2000"/>
            </a:b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TLER AND MUSSOLINI BECOME AGGRE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 Civil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ese in Ch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5867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utrality Act of 19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arms embargo, discretionary travel restri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utrality Act of 193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ban on loans to belliger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utrality Act of 193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made it more difficult for belligerents to export/import to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3124080" y="1295280"/>
            <a:ext cx="0" cy="5334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Attempts to stop German Expansion</a:t>
            </a:r>
            <a:br>
              <a:rPr sz="3200"/>
            </a:br>
            <a:r>
              <a:rPr b="1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APPEASEMENT!</a:t>
            </a:r>
            <a:br>
              <a:rPr sz="3200"/>
            </a:b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3962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unich Conference Agreement (1938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y, Britain, Italy, and Hitler allow Hitler to take Sudetenland (was it even their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this from Western Civ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if you give a mouse a cookie"/>
          <p:cNvPicPr/>
          <p:nvPr/>
        </p:nvPicPr>
        <p:blipFill>
          <a:blip r:embed="rId1"/>
          <a:stretch/>
        </p:blipFill>
        <p:spPr>
          <a:xfrm>
            <a:off x="4419720" y="4457880"/>
            <a:ext cx="2125440" cy="240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sudetenland acquisition"/>
          <p:cNvPicPr/>
          <p:nvPr/>
        </p:nvPicPr>
        <p:blipFill>
          <a:blip r:embed="rId2"/>
          <a:srcRect l="0" t="7462" r="40004" b="0"/>
          <a:stretch/>
        </p:blipFill>
        <p:spPr>
          <a:xfrm>
            <a:off x="4419720" y="0"/>
            <a:ext cx="4724280" cy="4422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2" name="Picture 8" descr="sud"/>
          <p:cNvPicPr/>
          <p:nvPr/>
        </p:nvPicPr>
        <p:blipFill>
          <a:blip r:embed="rId3"/>
          <a:stretch/>
        </p:blipFill>
        <p:spPr>
          <a:xfrm>
            <a:off x="7391520" y="4495680"/>
            <a:ext cx="175248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What is this cartoon saying about the Munich Conference? 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4" name="Picture 3" descr="10909cs[1]"/>
          <p:cNvPicPr/>
          <p:nvPr/>
        </p:nvPicPr>
        <p:blipFill>
          <a:blip r:embed="rId1"/>
          <a:stretch/>
        </p:blipFill>
        <p:spPr>
          <a:xfrm>
            <a:off x="1905120" y="990720"/>
            <a:ext cx="5715000" cy="5622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5" name="Rectangle 3"/>
          <p:cNvSpPr/>
          <p:nvPr/>
        </p:nvSpPr>
        <p:spPr>
          <a:xfrm>
            <a:off x="0" y="56577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s://www.washingtonpost.com/news/worldviews/wp/2015/11/17/what-americans-thought-of-jewish-refugees-on-the-eve-of-world-war-ii/?utm_term=.59d65c2fc27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ffering Viewpoin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les Lindbergh was part of the “America First Movemen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this cartoon say about this movem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10428cs[1]"/>
          <p:cNvPicPr/>
          <p:nvPr/>
        </p:nvPicPr>
        <p:blipFill>
          <a:blip r:embed="rId1"/>
          <a:stretch/>
        </p:blipFill>
        <p:spPr>
          <a:xfrm>
            <a:off x="2971800" y="1066680"/>
            <a:ext cx="5479920" cy="5562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22860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s://www.youtube.com/watch?v=dKEisxsn4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80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ffering Viewpoints Con’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1" name="Picture 3" descr="10716cs[1]"/>
          <p:cNvPicPr/>
          <p:nvPr/>
        </p:nvPicPr>
        <p:blipFill>
          <a:blip r:embed="rId1"/>
          <a:srcRect l="4223" t="0" r="2820" b="0"/>
          <a:stretch/>
        </p:blipFill>
        <p:spPr>
          <a:xfrm>
            <a:off x="0" y="1066680"/>
            <a:ext cx="4533840" cy="5791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10708cs[1]"/>
          <p:cNvPicPr/>
          <p:nvPr/>
        </p:nvPicPr>
        <p:blipFill>
          <a:blip r:embed="rId2"/>
          <a:stretch/>
        </p:blipFill>
        <p:spPr>
          <a:xfrm>
            <a:off x="4772160" y="685800"/>
            <a:ext cx="4371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ccffff"/>
                </a:solidFill>
                <a:uFillTx/>
                <a:latin typeface="Arial"/>
              </a:rPr>
              <a:t>Non-Neutral Isolationism</a:t>
            </a:r>
            <a:br>
              <a:rPr sz="4200"/>
            </a:b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*technically still called a “neutrality act”</a:t>
            </a:r>
            <a:endParaRPr b="0" lang="en-US" sz="1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/1/39- WW2 officially beg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trality Act of 1939- US response to invasion of Po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ed “Cash and Carr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uropean Democrac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uld pay cash for war goods and transport them on their own 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nstein’s Letter- Beginnings of the Manhattan Proj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is act effective in keeping the US out of “entangling alliances”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6:09:17Z</dcterms:created>
  <dc:creator>Darien Public Schools</dc:creator>
  <dc:description/>
  <dc:language>en-US</dc:language>
  <cp:lastModifiedBy>Balazs, Stephen</cp:lastModifiedBy>
  <cp:lastPrinted>2017-05-05T14:48:05Z</cp:lastPrinted>
  <dcterms:modified xsi:type="dcterms:W3CDTF">2017-05-05T15:31:50Z</dcterms:modified>
  <cp:revision>18</cp:revision>
  <dc:subject/>
  <dc:title>Response to Increasing Threat of WWII</dc:title>
</cp:coreProperties>
</file>